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1E0-7987-4FA7-AB00-8E0FBEEB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515-7F73-4FFB-9641-D142F66C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F29-5AFB-4989-8AB3-DEAA6D44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E93-65BB-4F25-B1BA-0958E5A6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C7C5-D5FB-431A-BB27-406F44E1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FDF0-85C3-43F5-8258-B41FA2FF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CA9D-363F-4493-9FFF-065516D9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9128-2E48-4254-8DEF-9643201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8AF7-1D82-4A90-85CA-1EDBF6E9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F95D-BD3F-411C-8CBB-8459918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E2F2-D06D-4CA7-84AF-CC57B937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9DE-7E8C-4383-9A83-B83E291F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8EA5-F18F-4C8D-80A9-7008192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4F2C-66FF-4617-A231-27094F84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80B2-AB09-4264-BEF2-5044667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397E-5462-4A2A-A59A-B1597A5F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5B6-AF31-446E-8826-0447C640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E179-5A4F-41F1-95E5-A14475A7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21C4-E148-416C-B06A-01A2A9B1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108D-5E5A-4758-994F-6463FB99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8AA4-F2EA-4CB0-902D-F9B5A3B1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438E-8849-4A6B-8F50-A29AA42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0FB-3D77-4E65-84D8-AE98C85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594DD-E7CD-44A4-8BCF-F8E5E505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B543-38C2-4517-ABE6-490C363D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8A0E3-E673-4FB6-9EA8-8552DB2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D507-E403-404A-B120-C7BFF55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397A-DF94-47B1-A718-150FECA9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9342-6B71-419F-8D13-C717CFF1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CDB3-AA1E-4A77-AEAA-19C83259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F7E0-F456-4D1C-A98C-497F1D28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19ECC-0585-4D6E-9482-7A5A8C51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9B4C-706B-4FB5-B489-13E22EC9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4B2-325A-47F2-AB54-1C1D9218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18012-860C-4CCD-AF7E-940C0C5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F857-8989-4970-BB32-79E8476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1078-E235-4341-806B-686C5D9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C3F1-37AF-4683-83F1-201F092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F6D2-060C-44A7-B286-948A216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587B-1E23-419C-A4E2-CDBFE01D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3302-9702-4B36-8941-06D18D1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6FE15-E896-4B2E-9298-399B9F2B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CF4D-872D-4755-AEC5-EC74B866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980-3810-4DAD-8221-11C51CB4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963-2C2C-44B2-815C-231306CA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86A-A5E8-4339-BD60-25803170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9A3-0659-41A2-AC4A-9185689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7FA-DE81-4007-B562-62BED92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0BB-4B65-4365-B862-208B4239D936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45D-099D-4734-9BA5-8F8E57412DC2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73B5-4EBA-4813-898D-4634445EB58A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9AF-D2C6-4C46-A5DC-A0C99D7D8922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FmidSbKhTs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457200" y="1365120"/>
            <a:ext cx="848520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Atividade  3.5 – Esboço Inici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Professor: Moisés Rodrigo Galony dos Santo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t3.gstatic.com/images?q=tbn:ANd9GcQKjpZJJYUQqbanyccnLIO-YtQOLjdd0GcL3BgcizpzOjnW8G4&amp;t=1&amp;usg=__8j_3jyvjpdaNlHGj8865UEP-uAE=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ítulo 1" descr=""/>
          <p:cNvPicPr/>
          <p:nvPr/>
        </p:nvPicPr>
        <p:blipFill>
          <a:blip r:embed="rId1"/>
          <a:stretch/>
        </p:blipFill>
        <p:spPr>
          <a:xfrm>
            <a:off x="201600" y="701640"/>
            <a:ext cx="8650440" cy="2559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555480"/>
            <a:ext cx="1390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C:\Users\Moises\Pictures\phasediagram[1].jpg"/>
          <p:cNvPicPr/>
          <p:nvPr/>
        </p:nvPicPr>
        <p:blipFill>
          <a:blip r:embed="rId2"/>
          <a:stretch/>
        </p:blipFill>
        <p:spPr>
          <a:xfrm>
            <a:off x="1476360" y="3357720"/>
            <a:ext cx="519264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cursos Digita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ilmador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ata Show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oftware Windows Movi Maker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quina Digit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155520" y="-555480"/>
            <a:ext cx="1390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55520" y="-555480"/>
            <a:ext cx="1390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te projeto foi realizado no período matutino envolvendo a turma do 2º ano B do Ensino Mé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intuito do projeto é propiciar aos alunos  o conhecimento sobre a influencia da pressão sobre a temperatura, foi proposto a eles que as atividades podiam ser desenvolvidas em forma de víde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magem 3" descr="dsc00006[1].jpg"/>
          <p:cNvPicPr/>
          <p:nvPr/>
        </p:nvPicPr>
        <p:blipFill>
          <a:blip r:embed="rId1"/>
          <a:stretch/>
        </p:blipFill>
        <p:spPr>
          <a:xfrm>
            <a:off x="971640" y="4437000"/>
            <a:ext cx="2840040" cy="2130480"/>
          </a:xfrm>
          <a:prstGeom prst="rect">
            <a:avLst/>
          </a:prstGeom>
          <a:ln w="0">
            <a:noFill/>
          </a:ln>
        </p:spPr>
      </p:pic>
      <p:sp>
        <p:nvSpPr>
          <p:cNvPr id="209" name="Botão de ação: Filme 4">
            <a:hlinkClick r:id="rId2"/>
          </p:cNvPr>
          <p:cNvSpPr/>
          <p:nvPr/>
        </p:nvSpPr>
        <p:spPr>
          <a:xfrm>
            <a:off x="4427640" y="4724280"/>
            <a:ext cx="3240000" cy="1513080"/>
          </a:xfrm>
          <a:custGeom>
            <a:avLst/>
            <a:gdLst>
              <a:gd name="textAreaLeft" fmla="*/ 97920 w 3240000"/>
              <a:gd name="textAreaRight" fmla="*/ 3142080 w 324000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46247" h="21600">
                <a:moveTo>
                  <a:pt x="0" y="0"/>
                </a:moveTo>
                <a:lnTo>
                  <a:pt x="46247" y="0"/>
                </a:lnTo>
                <a:lnTo>
                  <a:pt x="46247" y="21600"/>
                </a:lnTo>
                <a:lnTo>
                  <a:pt x="0" y="21600"/>
                </a:lnTo>
                <a:close/>
              </a:path>
              <a:path fill="lightenLess" w="46247" h="21600">
                <a:moveTo>
                  <a:pt x="0" y="0"/>
                </a:moveTo>
                <a:lnTo>
                  <a:pt x="46247" y="0"/>
                </a:lnTo>
                <a:lnTo>
                  <a:pt x="44847" y="1400"/>
                </a:lnTo>
                <a:lnTo>
                  <a:pt x="1400" y="1400"/>
                </a:lnTo>
                <a:close/>
              </a:path>
              <a:path fill="darken" w="46247" h="21600">
                <a:moveTo>
                  <a:pt x="46247" y="0"/>
                </a:moveTo>
                <a:lnTo>
                  <a:pt x="46247" y="21600"/>
                </a:lnTo>
                <a:lnTo>
                  <a:pt x="44847" y="20200"/>
                </a:lnTo>
                <a:lnTo>
                  <a:pt x="44847" y="1400"/>
                </a:lnTo>
                <a:close/>
              </a:path>
              <a:path fill="darkenLess" w="46247" h="21600">
                <a:moveTo>
                  <a:pt x="46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7" y="20200"/>
                </a:lnTo>
                <a:close/>
              </a:path>
              <a:path fill="lighten" w="46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7" h="21600">
                <a:moveTo>
                  <a:pt x="16117" y="7301"/>
                </a:moveTo>
                <a:lnTo>
                  <a:pt x="17031" y="7301"/>
                </a:lnTo>
                <a:lnTo>
                  <a:pt x="17414" y="7667"/>
                </a:lnTo>
                <a:lnTo>
                  <a:pt x="26622" y="7667"/>
                </a:lnTo>
                <a:lnTo>
                  <a:pt x="27179" y="8224"/>
                </a:lnTo>
                <a:lnTo>
                  <a:pt x="27179" y="8772"/>
                </a:lnTo>
                <a:lnTo>
                  <a:pt x="29025" y="8772"/>
                </a:lnTo>
                <a:lnTo>
                  <a:pt x="29390" y="8224"/>
                </a:lnTo>
                <a:lnTo>
                  <a:pt x="30130" y="8224"/>
                </a:lnTo>
                <a:lnTo>
                  <a:pt x="30130" y="13376"/>
                </a:lnTo>
                <a:lnTo>
                  <a:pt x="29390" y="13376"/>
                </a:lnTo>
                <a:lnTo>
                  <a:pt x="29025" y="12828"/>
                </a:lnTo>
                <a:lnTo>
                  <a:pt x="27179" y="12828"/>
                </a:lnTo>
                <a:lnTo>
                  <a:pt x="27179" y="14107"/>
                </a:lnTo>
                <a:lnTo>
                  <a:pt x="17597" y="14107"/>
                </a:lnTo>
                <a:lnTo>
                  <a:pt x="17597" y="9877"/>
                </a:lnTo>
                <a:lnTo>
                  <a:pt x="17414" y="9877"/>
                </a:lnTo>
                <a:lnTo>
                  <a:pt x="17031" y="10243"/>
                </a:lnTo>
                <a:lnTo>
                  <a:pt x="16117" y="1024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1:22:56Z</dcterms:created>
  <dc:creator>Moises</dc:creator>
  <dc:description/>
  <dc:language>en-US</dc:language>
  <cp:lastModifiedBy>Moises</cp:lastModifiedBy>
  <dcterms:modified xsi:type="dcterms:W3CDTF">2010-08-14T11:55:15Z</dcterms:modified>
  <cp:revision>4</cp:revision>
  <dc:subject/>
  <dc:title>TICS – TECNOLOGIA INTEGRADAS NA EDUCAÇÃO</dc:title>
</cp:coreProperties>
</file>